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F3E-0662-42DC-BA28-C1872CDE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7A62-DAE3-4C09-9371-0FC7386F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1B8F-2D10-423C-8DE1-048707BE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A681-0007-4273-A627-CFC5BB5B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AD2-62A0-432C-A108-16026135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CA19-B777-45B1-A344-5592A6E7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BC0C-DF54-4EA6-9929-24C50EB9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38E-CC92-47F2-AB37-09A200ED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4ED-6E94-4363-B6DB-773679C3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603-EA98-4288-9F5E-EACFE654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AFE-0130-41DC-A8F1-66A1EFB1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36D9-807F-44B6-ADC0-64990E65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F044-FAA9-4F78-8CC0-CC603BEF5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e 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pond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ar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col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udete il lib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 th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rite il lib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h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ete le m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p your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det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zat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e una do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00:41:09Z</dcterms:created>
  <dc:creator>Home</dc:creator>
  <dc:description/>
  <dc:language>en-US</dc:language>
  <cp:lastModifiedBy>Valeria Palladino</cp:lastModifiedBy>
  <dcterms:modified xsi:type="dcterms:W3CDTF">2010-01-10T23:43:28Z</dcterms:modified>
  <cp:revision>2</cp:revision>
  <dc:subject/>
  <dc:title>Fate attenzione</dc:title>
</cp:coreProperties>
</file>